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326-EF3D-449E-9AF2-587B675E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B30-1129-4539-8362-8467AE8D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35DDE-24C3-4A26-A5F3-EC1F3CD5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8B978-C999-4EB8-929E-0343DF37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C9281-4DEF-4937-9B81-094D19B7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2C6F8-CE24-4A84-B5DC-8E6A29A8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2DE95-5B94-4967-ADBB-0A1CBA8A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B581A-451D-4017-B9B6-75AD0C76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74D18-1AD0-498F-9392-73A9A377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0FA1E-0817-42C7-8EBF-5528C089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D0DF2-B806-41AD-8451-81D29E36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D3FE1-A4DB-43D0-BCEE-3475612A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BB64-3F67-4A44-B2C9-6998D7C5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9248C-5663-4DE4-A4FC-3C728B53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38CA9-7F94-46EB-A02F-61C125FD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5C1AE-1FE9-48C6-9E84-B9423F9E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59E3E-F29A-4849-8297-4B802E60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124EE-CC10-48F8-8584-3C882492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2535E-6A5E-446D-93F1-DAB9E8E3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ECAAD-847B-4785-B7EF-D1AB80E1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65B83-5927-4826-8093-497F25EB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60878-003B-433E-969E-EBE27A62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BD6A4-A24C-4B3D-869E-576812F4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7D6-4577-46F3-8DA2-FC0F9C47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DE020-4A14-4CB7-AB10-CE5F4CB5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C7CBF-1995-416D-AE19-769FF0FA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E59C1-CEA7-43AD-A16C-A1499BA2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71D36-302B-4AE2-95D1-6F771F08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00D24-3618-42BA-BA38-A1A7D4E9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E7F06-9683-40F5-90D3-0358405D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9A00A-01BB-411B-8403-33B35216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32D75-5EE9-404A-9569-1642DACD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9E170-40AE-44AE-90E7-73C2A5DA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7C2D4-8F8B-4A29-AB98-530B6284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0F5B-0F07-4EE1-ADF3-72B3F56B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311A4-4656-44EA-A391-AA62654A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C9800-458C-40A1-BCEA-4E4D70AE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A0D4E-3A5C-4414-91DC-262F9A1E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DC484-8896-488A-8016-633A5BAC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81309-D137-42DF-B310-C097F43A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25EFC-DC46-4216-84CD-2DA8B346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FDDA3-BC7A-4B84-AD00-486E21B9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E426D-2533-47FD-8BEA-4BD3CFFE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AF6A0-9FB6-4E9A-BDC2-6B987CC6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BF7B0-36B9-480E-A7E1-CB8988DD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7FC3-61DF-472C-8C41-C7D24EEA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D587F-69AA-4C29-B890-D2AB9C37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5D9A9-DABC-47D7-80E2-A5878F3F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F937C-29E8-4072-92B6-1D49A265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3DD1B-AAF3-4FD2-B283-BA311525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636F4-4E8E-4393-94F5-DE2C6C1D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4CA61-10C9-4E2D-87DF-CCF0E5B7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2EE61-DB67-4101-96D6-D7A9BBF5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47DA1-C8EF-4A89-9A06-8BB90284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ECE45-1C4B-489D-A686-B675AC47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3B9C8-057B-4352-84BB-80690C42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E4FF-CC88-4F31-B5A4-93EE3F4D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E30F9-6E3E-4F2D-9EC4-56ABAE65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49751-D857-4BE2-BF70-D3B1BD34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6F397-5BF5-46F9-9910-36FF6D87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0665F-DCEE-42C1-91FA-B695AAC2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32A4C-118B-4FFE-B5AF-3AE22322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24C3D-0868-4D79-8F70-FBB05904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9FE3D-C929-4A2F-BCEC-71E2598D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FB2E0-47B0-40A3-B984-CDCDA478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70481-B97D-4AE8-9C40-7F72B566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CC78E-CE75-4DAE-828B-A0768A93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CA61-0827-49D8-958D-5720FB29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26B61-39C7-4E74-9563-8D53D1B3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5DC3F-3C0D-483F-ABC5-52241816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EF1081-44A2-461D-9A29-FFE98FB2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F829B-8B7E-437B-A484-58DD89CD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A9C6D-241F-4E1C-97AE-54833D4B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000A96-A47C-4CAD-AD4C-A361D8C6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E1E32-9BC9-4A03-8297-4921456A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983C8-47DB-4819-8402-013DC8B9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82DDD3-E0BC-40E6-A8AE-DA726C56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338EB-98E0-4551-8E75-2EC7A7D1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E5A5-1743-403C-A77F-0AB4C9FE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F3EE5C-F4A9-49D9-A77E-6C96C5C3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6AFAA-A1A9-4370-BC9C-73B264BE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0BC981-448D-47A0-8D98-24FE8EF1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00E48-397C-4968-86E7-E2811333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2F67B-330E-42A6-9DB1-C200442C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02516B-D857-4DA9-BECD-034687FE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0C1D08-24DE-442A-9BE4-F17CDBC6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E9D375-6385-475A-A2ED-0274A364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0E9DF-77B1-4DEF-94ED-9CFDF8A8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F7CC4-6DDB-462D-8DE9-1299B4CC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5D59-35F3-40EA-98FA-A81236BC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4F725C-8F35-43BC-974E-39F08B19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DEF082-8993-4C7C-BACA-FB236CCE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0CC712-0263-4F31-985B-B672BCF3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C0C2AD-F38F-4CF0-8857-9B4BF3C2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2C07A6-DB84-467A-8D0D-06C17468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A0615F-0484-4EF7-B300-54562448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0C9893-83BD-4ECC-B3D5-E451E004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0CB0CD-309A-4F83-9254-80001E51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8BE1CB-3F1E-468A-9380-F29E0BBA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CAD18E-929C-4B93-A7A6-44CC24B8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0CE1-6973-4718-9686-40FEB55F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567C7-3957-4023-A2D8-41B364C2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5B737-0F58-4C1B-85EA-753847E5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08A838-324D-408B-8100-403F963F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B1ABF4-6919-4033-86EF-8F8CBE56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D0DD4F-C9A9-4CB9-A103-CC0E3FA3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3E8601-7EFC-40F6-A659-01F4680D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8CCCA2-5F34-4CE0-834A-41B3BA0D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38F9F4-ABA2-4E0C-9A15-04C5BDE1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D0B932-7DA5-4C8F-B71F-48C75A2E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CE5C79-34A1-4FBE-9E0A-F9E31129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3CB-FA91-42E3-844F-60339F30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DE41-874A-4BBE-842A-A1348EAE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850162-539A-4170-A467-17B9DE28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F919D6-845B-45F5-B92E-0CA3D1C3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59DF4F-E23D-4A04-B422-3EAC1C04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8FE4FC-A1ED-44E2-99C2-84EB5BDA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16F611-58C7-4D3E-B10A-5A7E2FEB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A37889-87EB-4CF0-A78B-38455E26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8F0244-5A1C-41E5-9848-C0A5F14C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AD36EF-7CE4-4EA4-89CD-3AA94432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A524B3-355E-4429-8217-98F9B5A6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E37CBF-D2E8-41B1-B7A4-2B1C8DAA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8E33-F034-4799-9679-A8DAC8DA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29E1B8-3795-487F-942C-E0B3F5A6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7654BE-0666-4082-89E2-1B4127A1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9FEF8-9C0B-4E40-B182-CEA14B88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4B05D1-52F1-4DB9-8FFB-54E33D78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18610-37EF-42BC-B62D-10910240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26ACD8-DCEB-4EA5-A083-5EA91635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0A4EB4-47E3-4E9F-B164-F0FF53B2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3177D9-9CD1-482C-BAA9-1F5CCB7E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D79D16-E6FF-4983-A107-F5360376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A44E60-0BFB-4711-B0D7-E5635B97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1499-3876-4E93-A882-A6E9268F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C9A678-0EBA-4932-8484-48E8565A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B06D14-88AC-4826-979D-84A170D3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258FB9-F626-4886-8B01-9625EF25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C040F2-C036-49ED-89F4-59456C59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D4A7FB-398D-46B2-A0A4-ADFBB118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B8C51F-B287-4771-8FEE-BEC159D7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B7130-64AB-4AC1-ACD8-EDFF384B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545BCA-B90A-4095-A080-3DCD0CE1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D771E1-93D5-4A1C-8878-80960CF8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43A76A-0673-4E03-A58F-8DB75C3C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86FF-D222-4B70-87E3-AFFAB32F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7AB67D-BCEB-450C-8BEA-31F84ABF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2CE332-8F4A-46BE-BDA0-A6881B1E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DBDFBB-049E-4BC8-94B2-00CC65B1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2DAD1C-F910-447F-9011-79B911FD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E4108-6363-4677-BCA7-A717D05E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A41C84-0C19-417F-AB43-B6C9E8EE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65A01D-7FB6-4471-B04F-3B27FF7E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E97F88-3412-4575-938F-BCA20233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C024D0-7725-4DA3-8858-CAE97495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F3B3A0-AF6A-496C-8A7C-7463FA8A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0ADD-22D8-4C2E-B924-5F5FD2E8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56E1FE-0379-446C-AAD9-6DED435C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09BC75-DE23-4161-BD50-AB0685AB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12498B-6743-4D62-9633-30421DE7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56234D-A1FB-4958-AF82-159115F7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8A026E-E0B6-475C-ABD6-78D7C4C5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9DEA8D-8B6B-4B70-B6D5-AFC55388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3463E3-8014-4ECC-9635-F361A399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0DAAB1-2E0A-4A63-84CA-3D4994A6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41DCC3-DE00-4241-8D99-AF01D275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1907A7-307B-4295-84E2-0B79F786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93F65-5103-4816-B1DE-4C815C7F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80C345-DE56-4B5A-9640-BA8B5148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C40DB2-4363-4096-9F4D-C4F872D4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F28893-8E62-40E8-8922-561249D6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505624-3217-429C-82CC-5DD556CE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B31F65-151E-44AA-B1EF-BC5FC729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2A5586-7EF8-489B-B3F6-3AD1CD2E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9C5778-18A0-4428-8E5D-805F92DE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F0A5AB-8849-4E8A-B9AF-41C0AFE8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EF802E-BCA6-4B26-847D-6F9DFD37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E58977-6B73-434A-9146-E6B809C3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80FC8-1FAD-48AF-AA7C-6953A801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096161-D06B-4F3B-8207-6A1AE486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E36BB0-67EB-4DC6-AD87-66D34789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00ABCB-894F-4F69-B560-2FB9A454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3E7C89-A34F-4279-B7D2-97BB862B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6C30EA-4F2A-4384-A685-2214FB3E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7A28DB-D94E-40DF-B7A2-8A32F20E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9474E5-5FCD-403C-93FF-AD617CED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AAB336-4176-4180-B559-A019E8CD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EFC597-5276-43CB-850F-DD3F8A47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DD5846-670C-4821-AD6F-2B3A5E35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4E7FE-1692-43CD-B81B-C3E55CB2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84766D-D385-4649-9AF3-6282F2EC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24C3EB-A583-4541-B66B-F5C23A28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779A4A-DAA3-47D4-AF7E-F6656B76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AEA0B6-E241-4978-951C-0042B3BC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B7B944-40F0-4074-9D09-E5B61FA1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9ED502-9090-46AD-B26D-E1D4F9FE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56D5F8-4C37-4FD2-9E09-918C9761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3066-E196-4681-874A-AE13B99E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8207D-B705-40B2-9884-D04D25E6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9A3-1E36-4B32-ADC1-9F7C4A61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A1446-0E5E-4955-908F-18776FF6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38A4A-9410-4ECD-88F9-1EB1A168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F41B4-FCC5-4861-93D6-42B22171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AEFDF-E4D6-4191-8337-74E7D437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A1B58-591F-4A62-8015-09C17C3D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F0F7D-97FD-4E10-A324-BB617C4A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A7A9-F1CF-4D4A-B766-E49B879E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CE216-B026-42CF-B249-079AD072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D4E2D-082C-4FD9-BAC2-1E0118E1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B64C3-A528-4DA0-AC8F-3E055390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9CA0-65B4-4C86-B103-B4828C8F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6BA16-DB04-4F46-AB76-9ACD98EA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0DD3-823A-4186-A756-E67AD00D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067EF-4888-4DA1-A6AF-F393359A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3245C-1A7B-42DA-A294-98AEA7CA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EA575-F05E-4253-A4E3-7139595B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9F5A7-9212-4620-8386-FF173D9B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DA682-8F9A-4975-A5B1-3D144804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704A7-6625-4769-80C5-16C4DD00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0B518-2397-40B7-8412-D22E0656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099AB-44C0-48CD-B1B9-0267F9EC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F9F-3CEF-4A69-BB3B-B2616BAB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3EDF2-1AFA-4F58-B0DA-90062C3F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583B5-2588-4776-A24C-C96032FF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40210-04E9-4000-9C42-6023B202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92BDF-B1A2-4BDA-9C71-7DDDB813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FFA11-9ECA-45B3-A1FE-A609FD68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9FFAD-4B5A-44CA-BB29-4732C1E1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0A6F4-34DD-4735-B81F-384B0E47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0333E-B0A3-4464-83EF-9AE5D795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22A32-4C0E-45E0-A0BB-19883AA9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A096E-2F31-4FA3-8249-9406CC87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C5E-7FB0-48AA-A9C6-341FB9A3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A88C9-6888-4C96-9027-EFE814E2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14DD5-9457-4C39-B181-905D89C6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9E437-3E42-468C-BB8A-C0511BED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BACC5-28AB-4D92-82FB-C601B6EF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A83FE-4C68-489A-AFA5-B497F08E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F5D04-0E8C-445F-8C89-A165D80E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114A6-BE9B-4063-9775-D85A9E4F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E4980-D45A-4559-9FE3-289F4988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C3751-DCCD-4CCC-8850-1FD56EDF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B3BDF-4EE5-43B3-9432-FCE10DE3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498-27E0-41A6-B936-EE63C00B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B0E4E-4511-4956-B798-A2A091DC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872EB-C5BB-441F-969E-69BBB2B2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F529F-1CF7-49A6-8BBC-56B9CC94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F55F0-7674-4FA7-BDE2-6F9750E8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6FDB2-9D9A-4110-A860-ACDD736D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E4FE0-EDB2-4E19-985D-C530BD8B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6D448-757C-4BF3-89E1-2CB83AE3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B576C-51D5-4CC8-B5A5-38E03EF4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73CD1-6EA3-4D08-99BB-6A9D3699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485C0-F1A5-4721-B659-8353E23A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92F-9BDA-4464-83C0-B89F0884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F2E14-04BD-46E2-9D36-EA300E16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C6D2D-3A67-4433-A076-08B8A04C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62665-7A70-4F3A-8C0D-22BCDED2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55817-69B6-475E-B35D-7A4599A3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1762A-3718-423A-97ED-FE59551F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2B33A-816B-43EA-AD55-1510D99B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2A793-C2D9-4F03-9912-64F3E02E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86D55-1DF0-4279-B1D6-779A4504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FB549-E94E-4081-BAF6-F8C70524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02B4B-C06F-48DE-B7E1-AA055BAF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851-BDC4-464F-9B87-A3715E6C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992D5-7E5A-471F-BF47-D878FBE7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0E6A6-8C62-42EE-9D32-39307160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5FD52-74A6-407A-8DCB-AEDB1F36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7CD4B-837A-45F3-834D-7A2D4147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70A9B-E35A-4F95-80E6-8091A080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99C5D-7009-41A6-8895-4DC04E79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0AD3A-BEEB-4091-B811-7AE95E79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36338-1CC4-4AA8-A709-CF177716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F4A76-AA1F-494C-923D-ABF37B6A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4E468-A268-4DC4-B2FC-B83629EB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9875-7AE5-41CA-BB67-1BEEBDA537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72EE-B439-48BB-96A7-E42FF41C87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B727-CE59-4C3E-B426-95DC024599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17C6-CCC2-47ED-8822-211EA51B50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9809-3F4F-4C42-9D42-ABB79B0285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9040-6BB9-4434-AC29-28E6D7D1F1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1A20-7CE2-4FB0-8F0E-6A3FEC4A59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7953-CE43-4591-83A8-7DD5C62511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1626-1C72-4D0A-8D1A-5564F58CFA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D0D6-E3BB-4FF6-9A02-9186F52D9A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DF85-BE61-4AB9-8351-83F53C73E8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50EC-8E0C-46E2-AE4C-32C409DDA4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5442-4B4E-41FD-ABDE-50F823769E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D984-74E9-4856-89D3-6003612130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D1B9-65BA-4B77-BA2E-E8BB194F80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844F-2C64-41FB-BE31-D248907AE6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DCC9-CE57-4A8B-B1B0-DB44EAD4D9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0A92-1F91-4BF2-9270-D99F93C6D1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EC30-F66A-4BCF-B4D4-54CBC4B082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B6C4-F61C-47A4-89A2-B873954A10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9C32-BA6F-44FB-9C06-B4334F2026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CD44-B93A-42B4-B125-B7A2FF3096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30E5-14BD-4715-B020-D2A92142DC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40B2-C9B6-42EE-B379-DDB28EC49E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866A-90A0-42BE-B33D-438E5CEB54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3DBA-8298-423E-9EA2-3FB57B3B82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3438-2C8D-49A8-BC60-BA90D475EC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2C22-147C-4F4D-A8B2-599064BC95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B9A4-17EC-408C-B896-C1B5BB09AC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C196-4A18-4EA7-A149-8CCF75197C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9A35-DBA8-4705-80B0-B325ACF416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3C65-A780-4CBF-954D-DB52304217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0F46-B270-4C7C-A49B-514C13644D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20E7-2DEF-40AD-96EF-EF9F28B55B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E299-33BA-4606-97C0-2887085D31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837E-901B-4265-AC75-9042E867F1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3DFE-A45E-46D6-A82D-C90D838E0F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7135-CB8F-42BC-8626-1664057537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0DEB-8A38-47AC-BA82-4EFAFF88E4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1865-9FE2-449F-A26B-CAE769A33D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3579-E72D-48B2-ADF8-50C09E432F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367D-67AB-4586-8AF2-76B899A4CE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57240" y="2776680"/>
            <a:ext cx="90295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52560" y="1406520"/>
            <a:ext cx="9040680" cy="183348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2" descr=""/>
          <p:cNvPicPr/>
          <p:nvPr/>
        </p:nvPicPr>
        <p:blipFill>
          <a:blip r:embed="rId2"/>
          <a:stretch/>
        </p:blipFill>
        <p:spPr>
          <a:xfrm>
            <a:off x="1200240" y="3483000"/>
            <a:ext cx="6743520" cy="2276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2973240" y="184464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3132000" y="242100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5508720" y="18446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5508720" y="2349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8632800" y="1844640"/>
            <a:ext cx="43992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8"/>
          <a:stretch/>
        </p:blipFill>
        <p:spPr>
          <a:xfrm>
            <a:off x="8288280" y="2363760"/>
            <a:ext cx="8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9"/>
          <a:stretch/>
        </p:blipFill>
        <p:spPr>
          <a:xfrm>
            <a:off x="3276720" y="4076640"/>
            <a:ext cx="82692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0"/>
          <a:stretch/>
        </p:blipFill>
        <p:spPr>
          <a:xfrm>
            <a:off x="3089160" y="4724280"/>
            <a:ext cx="8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1"/>
          <a:stretch/>
        </p:blipFill>
        <p:spPr>
          <a:xfrm>
            <a:off x="6199200" y="4048200"/>
            <a:ext cx="82692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2"/>
          <a:stretch/>
        </p:blipFill>
        <p:spPr>
          <a:xfrm>
            <a:off x="5608800" y="4681440"/>
            <a:ext cx="826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0160" y="905040"/>
            <a:ext cx="8743680" cy="56959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2340000" y="4869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6948360" y="4869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6804000" y="551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2325600" y="60930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866880" y="2324160"/>
            <a:ext cx="7410240" cy="22096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3780000" y="29671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2556000" y="38466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190440" y="901800"/>
            <a:ext cx="8763120" cy="5343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7207200" y="306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7164360" y="3716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7236000" y="436572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833400" y="668160"/>
            <a:ext cx="7477200" cy="60487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763640" y="2781360"/>
            <a:ext cx="50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1692360" y="6208560"/>
            <a:ext cx="504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200160" y="1285920"/>
            <a:ext cx="8743680" cy="42861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190800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197964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1692360" y="5013360"/>
            <a:ext cx="324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628560" y="934920"/>
            <a:ext cx="7886880" cy="54482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76364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476360" y="3213000"/>
            <a:ext cx="374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763640" y="45226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763640" y="517212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223920" y="733320"/>
            <a:ext cx="8696160" cy="580068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12291" descr=""/>
          <p:cNvPicPr/>
          <p:nvPr/>
        </p:nvPicPr>
        <p:blipFill>
          <a:blip r:embed="rId2"/>
          <a:stretch/>
        </p:blipFill>
        <p:spPr>
          <a:xfrm>
            <a:off x="1258920" y="3230640"/>
            <a:ext cx="70959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195120" y="1380960"/>
            <a:ext cx="8753760" cy="40960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826920" y="4797360"/>
            <a:ext cx="5905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0:34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